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F0CB-78EC-4C04-B7AA-C54CBAA3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BF0-554B-4A99-8B8F-CC4FEEEC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B9E-FD65-4969-B358-7CD4E247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C466-1E1A-4EAB-8CC7-BA2A1843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04E3-9BD5-4717-AC18-FF650F86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2B25-5A07-4307-9CBB-1FD2EF2D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F4E8-7115-40BD-9A29-FABB235B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7B3F-74E8-49A8-B9AA-6A0BDCC3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A05E-A20A-48E4-8FF4-682BFB61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703F-622F-400B-83F0-B2DDC4C1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7F2C-DC89-4D70-B0C9-5FB7EE97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788-5C12-438D-B63C-FE341011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941B-4A4B-43E3-AA0C-CEA3291E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CAD3-45F2-45B5-9905-A1CFB18F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EAE8-BB4A-4C15-AB2A-3C74FA7A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D9F1-CFA5-4505-B690-E8D79941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E734-7DC6-4727-BBC2-5941027B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D30B-F2DD-4638-AD30-9AE71FBF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F313-5FF4-40E7-913D-17D3DCE0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893-0037-4F47-A4FD-0ED25B8A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9C5-BBD0-48F6-A7BA-3562AAD9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9DF1-84A0-4930-826E-E137797F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489-57F6-4AE3-9828-B9F6E4FB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122-92F4-432D-AAE3-3826F609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6f5c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5cf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f5c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f5c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C332-2A03-4320-A41B-418F366FF2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6f5c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5cf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f5c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f5c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0D13-E9AF-4B14-8B91-F38D9E3E35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7"/>
          <p:cNvSpPr/>
          <p:nvPr/>
        </p:nvSpPr>
        <p:spPr>
          <a:xfrm>
            <a:off x="1332000" y="404640"/>
            <a:ext cx="68403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Procese psihice </a:t>
            </a:r>
            <a:r>
              <a:rPr b="0" lang="ro-RO" sz="4800" spc="-1" strike="noStrike">
                <a:solidFill>
                  <a:srgbClr val="3333cc"/>
                </a:solidFill>
                <a:latin typeface="Arial"/>
              </a:rPr>
              <a:t>şi rolul lor în evoluţia personalităţ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684360" y="2565360"/>
            <a:ext cx="821196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me – prenume – c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Mihăilescu Mari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- a </a:t>
            </a: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 – </a:t>
            </a: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nitatea de invatam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Liceul Teoretic “GH.ŞINCAI” Cluj - Nap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33cc"/>
                </a:solidFill>
                <a:latin typeface="Arial"/>
              </a:rPr>
              <a:t>Senzaţii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efiniţia senzaţi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 noua definiţi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33cc"/>
                </a:solidFill>
                <a:latin typeface="Arial"/>
              </a:rPr>
              <a:t>Senzaţiile vizu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67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f5cfa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scrierea imaginii de mai 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90760" y="2781360"/>
            <a:ext cx="332928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5440" y="568440"/>
            <a:ext cx="7221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cc"/>
                </a:solidFill>
                <a:latin typeface="Arial"/>
              </a:rPr>
              <a:t>Senzaţii vizu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3300"/>
                </a:solidFill>
                <a:latin typeface="Arial"/>
              </a:rPr>
              <a:t>Studiu de ca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3300"/>
                </a:solidFill>
                <a:latin typeface="Arial"/>
              </a:rPr>
              <a:t>Ioana reţine mai greu informaţiile pe care doar le aude dar daca informaţile sunt însoţite de imagini şi mai ales dacă imaginile sunt colorate înţelege totul mult mai uş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3300"/>
                </a:solidFill>
                <a:latin typeface="Arial"/>
              </a:rPr>
              <a:t>De ce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plica</a:t>
            </a:r>
            <a:r>
              <a:rPr b="0" lang="ro-RO" sz="2800" spc="-1" strike="noStrike">
                <a:solidFill>
                  <a:srgbClr val="ff3300"/>
                </a:solidFill>
                <a:latin typeface="Arial"/>
              </a:rPr>
              <a:t>ţia constă în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0033"/>
                </a:solidFill>
                <a:latin typeface="Arial"/>
              </a:rPr>
              <a:t>Senzaţii vizu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utoanaliză(introspecţie) cu privire la experienţa personal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0033"/>
                </a:solidFill>
                <a:latin typeface="Arial"/>
              </a:rPr>
              <a:t>Senzaţiile vizu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olul lor în artele viz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0033"/>
                </a:solidFill>
                <a:latin typeface="Arial"/>
              </a:rPr>
              <a:t>Senzaţii vizu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Bibliografi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icţionar de psihologie, Ed. Humanitas, Bucureşti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9T03:18:03Z</dcterms:created>
  <dc:creator>Adi Sopon</dc:creator>
  <dc:description/>
  <dc:language>en-US</dc:language>
  <cp:lastModifiedBy>Cursant11</cp:lastModifiedBy>
  <dcterms:modified xsi:type="dcterms:W3CDTF">2010-08-17T12:25:11Z</dcterms:modified>
  <cp:revision>44</cp:revision>
  <dc:subject/>
  <dc:title>Lucrare metodico-ştiinţifică  pentru obţinerea gradului didactic I</dc:title>
</cp:coreProperties>
</file>